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3730-2061-4705-8532-63C7DF8EAE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7584-42A5-4EA6-8A9B-5800ACFBD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97B0-B02A-4A90-A64E-6C2BD05F87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BC27-9A92-4F58-8A88-1A510D87BE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2202-109C-4B89-80C3-0A2F4CFED4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6117-3466-4FF8-87E5-02A0EABF76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96C8-4B5D-4841-86EB-2958D9FBA9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FBD6-2F70-4551-8084-40AA9963E4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7B48-3719-457B-881A-447A9108A9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3171-9650-46D6-B8EA-E754428DD5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38D1-0A79-41BE-B746-CB059C17E0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C5A8-DADE-43EA-8012-B31CF89343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69DC-766B-49D8-AABC-745C04ED56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9F34-AA44-4D24-88DC-03EDFC87E2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BEEA-B02E-4B7B-81D3-EF4998E239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BB10-4A27-47E8-9BA6-7AB00D5B43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B9B4-CEA8-4A25-A9C3-D3630189EA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E7D3-46F8-495A-AD15-715D049744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3409-105F-4892-8EB7-1096863396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AE3B-2F31-41F5-824A-94BBC45C50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EBF3-D97B-48AD-B536-808C90D4E0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83018"/>
                </a:gs>
                <a:gs pos="100000">
                  <a:srgbClr val="737f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483018"/>
                  </a:gs>
                  <a:gs pos="100000">
                    <a:srgbClr val="e3c1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83018"/>
                </a:gs>
                <a:gs pos="100000">
                  <a:srgbClr val="525a2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483018"/>
                    </a:gs>
                    <a:gs pos="100000">
                      <a:srgbClr val="e3c16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C’est à toi! 2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ité 1 – Les fête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çon 1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djectif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228600" y="312408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5867280" y="426708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Pratiqu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Contex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: M. &amp; Mme. Diffère sont un couple bizarre. Mme. Diffère est l’opposée de son mari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Tâche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dites comment est M. Diffère basé sur la description de sa femm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3429000" y="4317840"/>
            <a:ext cx="3465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di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diligen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paresseus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02" name="Content Placeholder 4" descr="MCj03978020000[1]"/>
          <p:cNvPicPr/>
          <p:nvPr/>
        </p:nvPicPr>
        <p:blipFill>
          <a:blip r:embed="rId1"/>
          <a:stretch/>
        </p:blipFill>
        <p:spPr>
          <a:xfrm>
            <a:off x="1981080" y="1600200"/>
            <a:ext cx="63248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433520" y="1447920"/>
            <a:ext cx="748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v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6826320" y="197496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l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ê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ch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685800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éné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goï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adjectifs sont utilisés (used) pour décrire quelqu’un ou quelque cho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. grand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ign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intellig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8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cc99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0"/>
          <a:ext cx="9144000" cy="6931080"/>
        </p:xfrm>
        <a:graphic>
          <a:graphicData uri="http://schemas.openxmlformats.org/drawingml/2006/table">
            <a:tbl>
              <a:tblPr/>
              <a:tblGrid>
                <a:gridCol w="2338560"/>
                <a:gridCol w="2306520"/>
                <a:gridCol w="1514520"/>
                <a:gridCol w="1514520"/>
                <a:gridCol w="1469880"/>
              </a:tblGrid>
              <a:tr h="622440">
                <a:tc gridSpan="5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Les Adjectifs - BAN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C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Vo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uv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v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32"/>
          <p:cNvSpPr/>
          <p:nvPr/>
        </p:nvSpPr>
        <p:spPr>
          <a:xfrm>
            <a:off x="2438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3"/>
          <p:cNvSpPr/>
          <p:nvPr/>
        </p:nvSpPr>
        <p:spPr>
          <a:xfrm>
            <a:off x="434340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34"/>
          <p:cNvSpPr/>
          <p:nvPr/>
        </p:nvSpPr>
        <p:spPr>
          <a:xfrm>
            <a:off x="5867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35"/>
          <p:cNvSpPr/>
          <p:nvPr/>
        </p:nvSpPr>
        <p:spPr>
          <a:xfrm>
            <a:off x="7315200" y="1889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6"/>
          <p:cNvSpPr/>
          <p:nvPr/>
        </p:nvSpPr>
        <p:spPr>
          <a:xfrm>
            <a:off x="2438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37"/>
          <p:cNvSpPr/>
          <p:nvPr/>
        </p:nvSpPr>
        <p:spPr>
          <a:xfrm>
            <a:off x="434340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38"/>
          <p:cNvSpPr/>
          <p:nvPr/>
        </p:nvSpPr>
        <p:spPr>
          <a:xfrm>
            <a:off x="5867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39"/>
          <p:cNvSpPr/>
          <p:nvPr/>
        </p:nvSpPr>
        <p:spPr>
          <a:xfrm>
            <a:off x="7391520" y="24987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0"/>
          <p:cNvSpPr/>
          <p:nvPr/>
        </p:nvSpPr>
        <p:spPr>
          <a:xfrm>
            <a:off x="2438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41"/>
          <p:cNvSpPr/>
          <p:nvPr/>
        </p:nvSpPr>
        <p:spPr>
          <a:xfrm>
            <a:off x="434340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42"/>
          <p:cNvSpPr/>
          <p:nvPr/>
        </p:nvSpPr>
        <p:spPr>
          <a:xfrm>
            <a:off x="5867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43"/>
          <p:cNvSpPr/>
          <p:nvPr/>
        </p:nvSpPr>
        <p:spPr>
          <a:xfrm>
            <a:off x="7391520" y="3048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44"/>
          <p:cNvSpPr/>
          <p:nvPr/>
        </p:nvSpPr>
        <p:spPr>
          <a:xfrm>
            <a:off x="2438280" y="3641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45"/>
          <p:cNvSpPr/>
          <p:nvPr/>
        </p:nvSpPr>
        <p:spPr>
          <a:xfrm>
            <a:off x="434340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46"/>
          <p:cNvSpPr/>
          <p:nvPr/>
        </p:nvSpPr>
        <p:spPr>
          <a:xfrm>
            <a:off x="586728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47"/>
          <p:cNvSpPr/>
          <p:nvPr/>
        </p:nvSpPr>
        <p:spPr>
          <a:xfrm>
            <a:off x="73915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48"/>
          <p:cNvSpPr/>
          <p:nvPr/>
        </p:nvSpPr>
        <p:spPr>
          <a:xfrm>
            <a:off x="2438280" y="4251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49"/>
          <p:cNvSpPr/>
          <p:nvPr/>
        </p:nvSpPr>
        <p:spPr>
          <a:xfrm>
            <a:off x="434340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50"/>
          <p:cNvSpPr/>
          <p:nvPr/>
        </p:nvSpPr>
        <p:spPr>
          <a:xfrm>
            <a:off x="5867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51"/>
          <p:cNvSpPr/>
          <p:nvPr/>
        </p:nvSpPr>
        <p:spPr>
          <a:xfrm>
            <a:off x="7391520" y="4267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2"/>
          <p:cNvSpPr/>
          <p:nvPr/>
        </p:nvSpPr>
        <p:spPr>
          <a:xfrm>
            <a:off x="2438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53"/>
          <p:cNvSpPr/>
          <p:nvPr/>
        </p:nvSpPr>
        <p:spPr>
          <a:xfrm>
            <a:off x="434340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54"/>
          <p:cNvSpPr/>
          <p:nvPr/>
        </p:nvSpPr>
        <p:spPr>
          <a:xfrm>
            <a:off x="5867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55"/>
          <p:cNvSpPr/>
          <p:nvPr/>
        </p:nvSpPr>
        <p:spPr>
          <a:xfrm>
            <a:off x="7391520" y="4800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56"/>
          <p:cNvSpPr/>
          <p:nvPr/>
        </p:nvSpPr>
        <p:spPr>
          <a:xfrm>
            <a:off x="2438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57"/>
          <p:cNvSpPr/>
          <p:nvPr/>
        </p:nvSpPr>
        <p:spPr>
          <a:xfrm>
            <a:off x="434340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58"/>
          <p:cNvSpPr/>
          <p:nvPr/>
        </p:nvSpPr>
        <p:spPr>
          <a:xfrm>
            <a:off x="5867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9"/>
          <p:cNvSpPr/>
          <p:nvPr/>
        </p:nvSpPr>
        <p:spPr>
          <a:xfrm>
            <a:off x="7391520" y="5394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0"/>
          <p:cNvSpPr/>
          <p:nvPr/>
        </p:nvSpPr>
        <p:spPr>
          <a:xfrm>
            <a:off x="2438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1"/>
          <p:cNvSpPr/>
          <p:nvPr/>
        </p:nvSpPr>
        <p:spPr>
          <a:xfrm>
            <a:off x="434340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2"/>
          <p:cNvSpPr/>
          <p:nvPr/>
        </p:nvSpPr>
        <p:spPr>
          <a:xfrm>
            <a:off x="5867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63"/>
          <p:cNvSpPr/>
          <p:nvPr/>
        </p:nvSpPr>
        <p:spPr>
          <a:xfrm>
            <a:off x="7391520" y="5943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64"/>
          <p:cNvSpPr/>
          <p:nvPr/>
        </p:nvSpPr>
        <p:spPr>
          <a:xfrm>
            <a:off x="2438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65"/>
          <p:cNvSpPr/>
          <p:nvPr/>
        </p:nvSpPr>
        <p:spPr>
          <a:xfrm>
            <a:off x="434340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66"/>
          <p:cNvSpPr/>
          <p:nvPr/>
        </p:nvSpPr>
        <p:spPr>
          <a:xfrm>
            <a:off x="5867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67"/>
          <p:cNvSpPr/>
          <p:nvPr/>
        </p:nvSpPr>
        <p:spPr>
          <a:xfrm>
            <a:off x="7391520" y="6461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Demandez à votre partenaire les questions suivantes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Votre partenaire doit répondre en utilisant l’adjectif indiqué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ATTENTION: QUELQUES ADJECTIFS DOIVENT PRÉCÉDÉS L’OBJET QU’ILS MODIFIENT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4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324480" y="3043080"/>
            <a:ext cx="26528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7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019920" y="2757600"/>
            <a:ext cx="29653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0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5386320" y="3124080"/>
            <a:ext cx="34416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3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5867280" y="3178080"/>
            <a:ext cx="327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6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3276720" y="2895480"/>
            <a:ext cx="3062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des(f) 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9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6553080" y="3124080"/>
            <a:ext cx="1860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2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6019920" y="2995560"/>
            <a:ext cx="28652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5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248520" y="3174840"/>
            <a:ext cx="26794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s pour tous les adjectifs, il faut les accorder en genre et nomb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Genr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mascul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fémin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omb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singulier (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pluriel (x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vieux burea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705720" y="4648320"/>
            <a:ext cx="20574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04920" y="3809880"/>
            <a:ext cx="8534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nouvelle chaîne stéré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781680" y="4510080"/>
            <a:ext cx="21733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belle lam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6477120" y="4648320"/>
            <a:ext cx="2385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tap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6248520" y="4800600"/>
            <a:ext cx="22003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vieille armo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6735600" y="228600"/>
            <a:ext cx="24084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des 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de jolies étagè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7238880" y="1349280"/>
            <a:ext cx="15559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304920" y="3733920"/>
            <a:ext cx="8534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nouvelle commo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7010280" y="4495680"/>
            <a:ext cx="17989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04920" y="365760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l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629400" y="4329000"/>
            <a:ext cx="18414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On peut l’organiser comme ceci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2895480"/>
          <a:ext cx="7731000" cy="3353040"/>
        </p:xfrm>
        <a:graphic>
          <a:graphicData uri="http://schemas.openxmlformats.org/drawingml/2006/table">
            <a:tbl>
              <a:tblPr/>
              <a:tblGrid>
                <a:gridCol w="2092320"/>
                <a:gridCol w="2819520"/>
                <a:gridCol w="281916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Windows User</cp:lastModifiedBy>
  <dcterms:modified xsi:type="dcterms:W3CDTF">2013-09-25T13:16:44Z</dcterms:modified>
  <cp:revision>94</cp:revision>
  <dc:subject/>
  <dc:title>Allez, viens! – Level 2</dc:title>
</cp:coreProperties>
</file>